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BCD-8B38-4CC5-AD62-D34B081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E07-A9E3-4A1F-B8A6-691BBA0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8A0-AB41-4E69-9072-0549B452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5AD-2331-4936-BEE6-C8EB17A9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967-16A7-48DC-9DB2-8C90687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B25-346A-428C-A5A9-63F1FA9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970-0DAB-4C87-A65B-1B79B53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D01-C266-4BE5-AB0B-D21DD4BE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F86-D59F-48D5-AF57-3D0725F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DAF-0065-4EED-B1DB-2D511F9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51F-FE26-4E1D-978E-234AE19A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A2E-D903-42C7-A93F-C31AEDC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B55-C0C7-4498-B178-A8BAF77489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158920" cy="863640"/>
          </a:xfrm>
          <a:prstGeom prst="ellipse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OVI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IGRATO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0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0"/>
            <a:ext cx="1871640" cy="11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ANN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IVERE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 AL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76720" y="404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0"/>
            <a:ext cx="158436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ROV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052640"/>
            <a:ext cx="100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197000"/>
            <a:ext cx="22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UGGIRE 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TUAZ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IFFIC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(ESEMP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GUERRE 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26920" y="83664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1360"/>
            <a:ext cx="1871640" cy="1582920"/>
          </a:xfrm>
          <a:prstGeom prst="rect">
            <a:avLst/>
          </a:prstGeom>
          <a:solidFill>
            <a:srgbClr val="66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SI CHI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Black"/>
              </a:rPr>
              <a:t>E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QUANDO LE PERSONE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UN PAESE SE NE VAN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ALL’ESTERO A VIV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E CERC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7720"/>
            <a:ext cx="1908000" cy="1511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GLI ITALIANI SONO STA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EMIGRANTI IN MOL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PAESI E, ANCHE 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MENO DI UNA VOLTA, 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SONO ANCHE OG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0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3789360"/>
            <a:ext cx="136836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ETE PRINCIPAL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268000" y="4076640"/>
            <a:ext cx="28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4076640"/>
            <a:ext cx="28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076640"/>
            <a:ext cx="360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941720"/>
            <a:ext cx="720720" cy="432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UROP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300640"/>
            <a:ext cx="1008000" cy="865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.S.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229360"/>
            <a:ext cx="1008000" cy="576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765000"/>
            <a:ext cx="1152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1989000"/>
            <a:ext cx="2087640" cy="115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 CHIA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QUANDO IN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RIVANO STRANI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 VIVERE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85264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3500280"/>
            <a:ext cx="1152720" cy="129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RIV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MMIGR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OPRATTU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486900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229360"/>
            <a:ext cx="7189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UR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97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5300640"/>
            <a:ext cx="19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FRICA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8:00:29Z</dcterms:created>
  <dc:creator>informatica20</dc:creator>
  <dc:description/>
  <dc:language>en-US</dc:language>
  <cp:lastModifiedBy>s</cp:lastModifiedBy>
  <dcterms:modified xsi:type="dcterms:W3CDTF">2017-02-13T08:55:37Z</dcterms:modified>
  <cp:revision>4</cp:revision>
  <dc:subject/>
  <dc:title>Diapositiva 1</dc:title>
</cp:coreProperties>
</file>